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gif" ContentType="image/gi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27D-CC82-47B2-917D-31DACCE7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104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5390640"/>
            <a:ext cx="86104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ED3-AAB6-4D76-AED1-85BB333E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495252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539064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539064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8C6-42D8-4F08-BE05-8DC53F58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2772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4952520"/>
            <a:ext cx="2772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4952520"/>
            <a:ext cx="2772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5390640"/>
            <a:ext cx="2772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5390640"/>
            <a:ext cx="2772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5390640"/>
            <a:ext cx="2772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2C6-515D-4658-82B8-6A8A9C65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640F-AC2B-4BC4-A57E-4FC59AA3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4952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1371-20D2-40BD-A021-F7349B6B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8E3E-E9EE-4714-ABC3-8B7E655E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4201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4952520"/>
            <a:ext cx="4201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E946-DA83-4E4F-889D-BB09BEEC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7B4B-D1C7-4719-AFA2-F925FCC3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610480" cy="46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76E6-99EE-4164-8775-0A2728FD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4952520"/>
            <a:ext cx="4201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539064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FC7F-2B19-4FBD-9E28-B1E24413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4952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76E-F264-413D-9D01-355F80F9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4201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495252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539064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2A17-B2FF-44AA-BE11-5701280E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495252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5390640"/>
            <a:ext cx="86104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AB67-5E32-4A0C-A8E3-040EC352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104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5390640"/>
            <a:ext cx="86104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4C1B-8DFB-41DF-95DB-880A3055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495252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539064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539064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FDCA-BB67-4517-BE20-CB087FBB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2772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4952520"/>
            <a:ext cx="2772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4952520"/>
            <a:ext cx="2772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5390640"/>
            <a:ext cx="2772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5390640"/>
            <a:ext cx="2772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5390640"/>
            <a:ext cx="2772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01EA-4BDC-4467-A867-37FC207D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FFB-CAEF-4014-B3B2-07272528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4201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4952520"/>
            <a:ext cx="4201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028-1BC3-497A-B73B-29F1D1DB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1EC-BDB3-4A53-9BA3-75562553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610480" cy="46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C03-BA4C-44B9-936D-67678EC4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4952520"/>
            <a:ext cx="4201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539064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3A1-67DF-4997-BC9A-E781357C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4201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495252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539064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C7F-967C-4AA7-A8C1-703595BA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4952520"/>
            <a:ext cx="42015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5390640"/>
            <a:ext cx="861048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A7D-F1F3-4EC3-AA5E-B3141E2D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B4DC-7C8B-463A-9320-9B0B538F2A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F508-571A-4D0F-8CA3-014EC6D15F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4508280"/>
            <a:ext cx="86104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Comic Sans MS"/>
              </a:rPr>
              <a:t>КЛАССИФИКАЦИЯ</a:t>
            </a:r>
            <a:br>
              <a:rPr sz="4000"/>
            </a:br>
            <a:r>
              <a:rPr b="1" i="1" lang="ru-RU" sz="4000" spc="-1" strike="noStrike">
                <a:solidFill>
                  <a:srgbClr val="800000"/>
                </a:solidFill>
                <a:latin typeface="Comic Sans MS"/>
              </a:rPr>
              <a:t>ХИМИЧЕСКИХ РЕА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РЕАКЦИИ СОЕДИН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565360"/>
            <a:ext cx="50472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491280" y="2348640"/>
            <a:ext cx="289080" cy="1297080"/>
          </a:xfrm>
          <a:custGeom>
            <a:avLst/>
            <a:gdLst>
              <a:gd name="textAreaLeft" fmla="*/ 0 w 289080"/>
              <a:gd name="textAreaRight" fmla="*/ 104400 w 2890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99"/>
                </a:lnTo>
                <a:cubicBezTo>
                  <a:pt x="10800" y="9499"/>
                  <a:pt x="16200" y="10399"/>
                  <a:pt x="21600" y="10399"/>
                </a:cubicBezTo>
                <a:cubicBezTo>
                  <a:pt x="16200" y="10399"/>
                  <a:pt x="10800" y="11299"/>
                  <a:pt x="10800" y="121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3573360"/>
            <a:ext cx="2735280" cy="906480"/>
          </a:xfrm>
          <a:prstGeom prst="borderCallout2">
            <a:avLst>
              <a:gd name="adj1" fmla="val 18750"/>
              <a:gd name="adj2" fmla="val -8333"/>
              <a:gd name="adj3" fmla="val 12611"/>
              <a:gd name="adj4" fmla="val 112537"/>
              <a:gd name="adj5" fmla="val -35375"/>
              <a:gd name="adj6" fmla="val 122402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ескольк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ще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3500280"/>
            <a:ext cx="280836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-6615"/>
              <a:gd name="adj5" fmla="val -74189"/>
              <a:gd name="adj6" fmla="val -13736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дн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ол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е ве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501336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акциями соеди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ют реакции, при которых из нескольких веществ образуется одно более сложное вещест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РЕАКЦИИ РАЗЛОЖ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2133720"/>
            <a:ext cx="626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O + 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2421000"/>
            <a:ext cx="50328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573360"/>
            <a:ext cx="230508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07782"/>
              <a:gd name="adj5" fmla="val -91398"/>
              <a:gd name="adj6" fmla="val 112467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дн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ложное ве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3675240"/>
            <a:ext cx="2736720" cy="906120"/>
          </a:xfrm>
          <a:prstGeom prst="borderCallout2">
            <a:avLst>
              <a:gd name="adj1" fmla="val 18750"/>
              <a:gd name="adj2" fmla="val -8333"/>
              <a:gd name="adj3" fmla="val 12611"/>
              <a:gd name="adj4" fmla="val -6324"/>
              <a:gd name="adj5" fmla="val -52712"/>
              <a:gd name="adj6" fmla="val -9916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ескольк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ще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5084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акциями раз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ют реакции, при которых из одного сложного вещества образуется несколько новых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5148000" y="2131920"/>
            <a:ext cx="431640" cy="1584360"/>
          </a:xfrm>
          <a:custGeom>
            <a:avLst/>
            <a:gdLst>
              <a:gd name="textAreaLeft" fmla="*/ 0 w 431640"/>
              <a:gd name="textAreaRight" fmla="*/ 155880 w 43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99"/>
                </a:lnTo>
                <a:cubicBezTo>
                  <a:pt x="10800" y="9499"/>
                  <a:pt x="16200" y="10399"/>
                  <a:pt x="21600" y="10399"/>
                </a:cubicBezTo>
                <a:cubicBezTo>
                  <a:pt x="16200" y="10399"/>
                  <a:pt x="10800" y="11299"/>
                  <a:pt x="10800" y="121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РЕАКЦИИ ЗАМЕЩ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4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0360" y="3068640"/>
            <a:ext cx="72072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398400">
            <a:off x="2046240" y="1987200"/>
            <a:ext cx="1441440" cy="934920"/>
          </a:xfrm>
          <a:custGeom>
            <a:avLst/>
            <a:gdLst>
              <a:gd name="textAreaLeft" fmla="*/ 252000 w 1441440"/>
              <a:gd name="textAreaRight" fmla="*/ 1045080 w 1441440"/>
              <a:gd name="textAreaTop" fmla="*/ 125280 h 934920"/>
              <a:gd name="textAreaBottom" fmla="*/ 8096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178160"/>
            <a:ext cx="1728720" cy="690840"/>
          </a:xfrm>
          <a:prstGeom prst="borderCallout2">
            <a:avLst>
              <a:gd name="adj1" fmla="val 18750"/>
              <a:gd name="adj2" fmla="val -8333"/>
              <a:gd name="adj3" fmla="val 16550"/>
              <a:gd name="adj4" fmla="val 108356"/>
              <a:gd name="adj5" fmla="val -118851"/>
              <a:gd name="adj6" fmla="val 112490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РОСТО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11600" y="4178160"/>
            <a:ext cx="1940040" cy="690840"/>
          </a:xfrm>
          <a:prstGeom prst="borderCallout2">
            <a:avLst>
              <a:gd name="adj1" fmla="val 18750"/>
              <a:gd name="adj2" fmla="val -8333"/>
              <a:gd name="adj3" fmla="val 16550"/>
              <a:gd name="adj4" fmla="val -9412"/>
              <a:gd name="adj5" fmla="val -118851"/>
              <a:gd name="adj6" fmla="val -15055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ЛОЖНО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551664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5300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акциями замещ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ют реакции, при которых атомы простого вещества замещают один из элементов в сложном веще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РЕАКЦИИ ОБМЕН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B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SO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BaSO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 2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2565360"/>
            <a:ext cx="57636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1844640"/>
            <a:ext cx="1584360" cy="504720"/>
          </a:xfrm>
          <a:custGeom>
            <a:avLst/>
            <a:gdLst>
              <a:gd name="textAreaLeft" fmla="*/ 318960 w 1584360"/>
              <a:gd name="textAreaRight" fmla="*/ 1106640 w 158436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04" hR="21600" stAng="10800000" swAng="5400000"/>
                <a:lnTo>
                  <a:pt x="10737" y="0"/>
                </a:lnTo>
                <a:arcTo wR="8704" hR="21600" stAng="-5400000" swAng="2630971"/>
                <a:lnTo>
                  <a:pt x="20923" y="13245"/>
                </a:lnTo>
                <a:lnTo>
                  <a:pt x="18424" y="21600"/>
                </a:lnTo>
                <a:lnTo>
                  <a:pt x="14570" y="13245"/>
                </a:lnTo>
                <a:lnTo>
                  <a:pt x="16730" y="13245"/>
                </a:lnTo>
                <a:arcTo wR="8704" hR="21600" stAng="-2769029" swAng="-2468197"/>
                <a:lnTo>
                  <a:pt x="9720" y="148"/>
                </a:lnTo>
                <a:arcTo wR="8704" hR="21600" stAng="-5562774" swAng="-5237226"/>
                <a:close/>
              </a:path>
              <a:path fill="darkenLess" w="21600" h="21600">
                <a:moveTo>
                  <a:pt x="0" y="21600"/>
                </a:moveTo>
                <a:arcTo wR="8704" hR="21600" stAng="10800000" swAng="5400000"/>
                <a:lnTo>
                  <a:pt x="8704" y="0"/>
                </a:lnTo>
                <a:arcTo wR="8704" hR="21600" stAng="-5400000" swAng="162774"/>
                <a:lnTo>
                  <a:pt x="9720" y="148"/>
                </a:lnTo>
                <a:arcTo wR="8704" hR="21600" stAng="-5562774" swAng="-5237226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1012400">
            <a:off x="2123280" y="2852280"/>
            <a:ext cx="1730520" cy="432000"/>
          </a:xfrm>
          <a:custGeom>
            <a:avLst/>
            <a:gdLst>
              <a:gd name="textAreaLeft" fmla="*/ 318960 w 1730520"/>
              <a:gd name="textAreaRight" fmla="*/ 1173600 w 17305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65" hR="21600" stAng="10800000" swAng="5400000"/>
                <a:lnTo>
                  <a:pt x="10665" y="0"/>
                </a:lnTo>
                <a:arcTo wR="7965" hR="21600" stAng="-5400000" swAng="2772316"/>
                <a:lnTo>
                  <a:pt x="21144" y="14400"/>
                </a:lnTo>
                <a:lnTo>
                  <a:pt x="17280" y="21600"/>
                </a:lnTo>
                <a:lnTo>
                  <a:pt x="12504" y="14400"/>
                </a:lnTo>
                <a:lnTo>
                  <a:pt x="15474" y="14400"/>
                </a:lnTo>
                <a:arcTo wR="7965" hR="21600" stAng="-2627684" swAng="-2554595"/>
                <a:lnTo>
                  <a:pt x="9315" y="313"/>
                </a:lnTo>
                <a:arcTo wR="7965" hR="21600" stAng="-5617722" swAng="-5182278"/>
                <a:close/>
              </a:path>
              <a:path fill="darkenLess" w="21600" h="21600">
                <a:moveTo>
                  <a:pt x="0" y="21600"/>
                </a:moveTo>
                <a:arcTo wR="7965" hR="21600" stAng="10800000" swAng="5400000"/>
                <a:lnTo>
                  <a:pt x="7965" y="0"/>
                </a:lnTo>
                <a:arcTo wR="7965" hR="21600" stAng="-5400000" swAng="217722"/>
                <a:lnTo>
                  <a:pt x="9315" y="313"/>
                </a:lnTo>
                <a:arcTo wR="7965" hR="21600" stAng="-5617722" swAng="-5182278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443700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акциями обм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ют реакции, при которых два сложных вещества обмениваются своими составными част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ЗАКРЕПИМ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2781360"/>
            <a:ext cx="5184720" cy="1727280"/>
          </a:xfrm>
          <a:prstGeom prst="ellipse">
            <a:avLst/>
          </a:prstGeom>
          <a:solidFill>
            <a:srgbClr val="000066">
              <a:alpha val="20000"/>
            </a:srgbClr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ТИПЫ РЕАКЦ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92720" y="1557360"/>
            <a:ext cx="3382920" cy="1297080"/>
          </a:xfrm>
          <a:prstGeom prst="wedgeEllipseCallout">
            <a:avLst>
              <a:gd name="adj1" fmla="val -31606"/>
              <a:gd name="adj2" fmla="val 57342"/>
            </a:avLst>
          </a:prstGeom>
          <a:solidFill>
            <a:srgbClr val="000066">
              <a:alpha val="20000"/>
            </a:srgbClr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РАЗ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В = А+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250920" y="4437000"/>
            <a:ext cx="3889440" cy="1944720"/>
          </a:xfrm>
          <a:prstGeom prst="wedgeEllipseCallout">
            <a:avLst>
              <a:gd name="adj1" fmla="val -47143"/>
              <a:gd name="adj2" fmla="val 46407"/>
            </a:avLst>
          </a:prstGeom>
          <a:solidFill>
            <a:srgbClr val="000066">
              <a:alpha val="20000"/>
            </a:srgbClr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ЗАМЕЩ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В+С=АС+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В+С=ВС+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00720" y="4508640"/>
            <a:ext cx="4464000" cy="1873080"/>
          </a:xfrm>
          <a:prstGeom prst="wedgeEllipseCallout">
            <a:avLst>
              <a:gd name="adj1" fmla="val -34495"/>
              <a:gd name="adj2" fmla="val -51611"/>
            </a:avLst>
          </a:prstGeom>
          <a:solidFill>
            <a:srgbClr val="000066">
              <a:alpha val="20000"/>
            </a:srgbClr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ОБМ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В+СД=АД+В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В+СД=АС+В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179280" y="1557360"/>
            <a:ext cx="3494160" cy="1441440"/>
          </a:xfrm>
          <a:prstGeom prst="wedgeEllipseCallout">
            <a:avLst>
              <a:gd name="adj1" fmla="val -46185"/>
              <a:gd name="adj2" fmla="val -43064"/>
            </a:avLst>
          </a:prstGeom>
          <a:solidFill>
            <a:srgbClr val="000066">
              <a:alpha val="20000"/>
            </a:srgbClr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СОЕДИН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А + В = А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ЗАКРЕПИМ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O =2HP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Fe(OH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Fe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+ 3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KCl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2KCl + 3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Al + 3S = A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Zn + 2HCl = ZnC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Cu(Н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CuO + 2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+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HgO = 2Hg + 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Ca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HN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Ca(N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+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16720" y="1980720"/>
            <a:ext cx="2395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со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раз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раз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со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зам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раз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раз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8172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Указать тип химических реакций, расставить коэффициенты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+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+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+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C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+Cu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Zn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+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=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+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+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=K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K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O+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=F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Допиши схему реакции, расставь коэффициенты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 укажи тип реакции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284640"/>
            <a:ext cx="51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205000"/>
            <a:ext cx="4824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e +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2 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2492280"/>
            <a:ext cx="50328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177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3141720"/>
            <a:ext cx="6120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l+Fe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3 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… +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3573360"/>
            <a:ext cx="57636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4149720"/>
            <a:ext cx="4824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… +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4437000"/>
            <a:ext cx="57600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53006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aO + H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… +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5661000"/>
            <a:ext cx="71892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ОБОБЩИМ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2781360"/>
            <a:ext cx="374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ХИМ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0750400">
            <a:off x="839880" y="1176480"/>
            <a:ext cx="3384360" cy="1657080"/>
          </a:xfrm>
          <a:prstGeom prst="irregularSeal1">
            <a:avLst/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Е ВЕЩ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3645000"/>
            <a:ext cx="2376360" cy="2736720"/>
          </a:xfrm>
          <a:prstGeom prst="borderCallout2">
            <a:avLst>
              <a:gd name="adj1" fmla="val 18750"/>
              <a:gd name="adj2" fmla="val -8333"/>
              <a:gd name="adj3" fmla="val 4175"/>
              <a:gd name="adj4" fmla="val 111023"/>
              <a:gd name="adj5" fmla="val -14907"/>
              <a:gd name="adj6" fmla="val 119240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d4"/>
                </a:solidFill>
                <a:uFillTx/>
                <a:latin typeface="Times New Roman"/>
              </a:rPr>
              <a:t>ПРИЗН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сад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80000" y="1598760"/>
            <a:ext cx="3313080" cy="1542960"/>
          </a:xfrm>
          <a:prstGeom prst="borderCallout2">
            <a:avLst>
              <a:gd name="adj1" fmla="val 18750"/>
              <a:gd name="adj2" fmla="val -8333"/>
              <a:gd name="adj3" fmla="val 7407"/>
              <a:gd name="adj4" fmla="val -7712"/>
              <a:gd name="adj5" fmla="val 80555"/>
              <a:gd name="adj6" fmla="val -28652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УСЛО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нагре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соприкоснов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катализ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03640" y="3500280"/>
            <a:ext cx="3959280" cy="3029040"/>
          </a:xfrm>
          <a:prstGeom prst="borderCallout2">
            <a:avLst>
              <a:gd name="adj1" fmla="val 18750"/>
              <a:gd name="adj2" fmla="val -8333"/>
              <a:gd name="adj3" fmla="val 3773"/>
              <a:gd name="adj4" fmla="val -4412"/>
              <a:gd name="adj5" fmla="val -9171"/>
              <a:gd name="adj6" fmla="val -5972"/>
            </a:avLst>
          </a:prstGeom>
          <a:solidFill>
            <a:srgbClr val="000066">
              <a:alpha val="2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c9056"/>
                </a:solidFill>
                <a:uFillTx/>
                <a:latin typeface="Times New Roman"/>
              </a:rPr>
              <a:t>ТИ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75fdf"/>
                </a:solidFill>
                <a:latin typeface="Times New Roman"/>
              </a:rPr>
              <a:t>по числу и составу исходных веществ и продуктов реа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еди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л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ме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ДОМАШНЕЕ ЗАДАНИ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07640" y="2276640"/>
            <a:ext cx="664380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§ 16, упр. 5, 6 (с. 47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276720" y="3614760"/>
            <a:ext cx="28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«Химическое превращ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химическая реа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есть главный предмет химии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.Н.Семёнов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348000" y="4005360"/>
            <a:ext cx="22734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4508280"/>
            <a:ext cx="86104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Comic Sans MS"/>
              </a:rPr>
              <a:t>СПАСИБО ЗА ВНИМАНИЕ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8353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Какие явления относятся к (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Ф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) физическим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а какие к (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Х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) химическим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ипение во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образование на деревьях ине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кисание мол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жавление гвозд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таяние ль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горение бенгальских ог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гниение раст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иготовление сахарной пудры из саха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горение све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астворение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ПРОВЕРИМ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Ф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– 1, 2, 5, 8,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Х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– 3, 4, 6, 7,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«5»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- без ошиб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1" i="1" lang="ru-RU" sz="2400" spc="-1" strike="noStrike">
                <a:solidFill>
                  <a:srgbClr val="009900"/>
                </a:solidFill>
                <a:latin typeface="Comic Sans MS"/>
              </a:rPr>
              <a:t>«4»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- 1-2 ошиб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d4"/>
                </a:solidFill>
                <a:latin typeface="Comic Sans MS"/>
              </a:rPr>
              <a:t>    </a:t>
            </a:r>
            <a:r>
              <a:rPr b="1" i="1" lang="ru-RU" sz="2400" spc="-1" strike="noStrike">
                <a:solidFill>
                  <a:srgbClr val="0000d4"/>
                </a:solidFill>
                <a:latin typeface="Comic Sans MS"/>
              </a:rPr>
              <a:t>«3»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- 3-4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84720" y="3500280"/>
            <a:ext cx="185112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ПОВТОРИМ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844280"/>
            <a:ext cx="8610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то такое химическая реакц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ечислите признаки протекания химической реа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условия необходимы для возникновения химической реак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веди примеры химических реакций из повседнев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Расставить коэффициент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 =HP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Fe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KCl + 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l + S = Al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Zn + HCl = ZnCl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u(Н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CuO + 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gO = Hg + 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HN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Ca(N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56000" y="2852640"/>
            <a:ext cx="4183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ПРОВЕРИМ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 =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P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Fe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KCl +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l +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 = Al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Zn +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Cl = ZnCl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u(Н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CuO +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gO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g + 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Ca(N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2376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421000"/>
            <a:ext cx="8964720" cy="41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Классификаци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пределение объектов и явлений по классам, группам на основе их общих признак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7416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Классификация химических реакций по числу и составу исходных и полученных вещест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2637000"/>
            <a:ext cx="792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АКЦИИ СОЕДИ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АКЦИИ ЗАМЕ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13:44:51Z</dcterms:created>
  <dc:creator>User</dc:creator>
  <dc:description/>
  <cp:keywords/>
  <dc:language>en-US</dc:language>
  <cp:lastModifiedBy>User</cp:lastModifiedBy>
  <dcterms:modified xsi:type="dcterms:W3CDTF">2009-08-28T17:42:41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61049</vt:lpwstr>
  </property>
</Properties>
</file>